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07457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0140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08912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91404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00140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708912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A515B-EA93-49D6-94FF-4B0718F3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16F0E-3DF4-4E6E-B744-CC3E38CE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B7E7B-EF98-43F2-984C-79744C5A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A6964-3357-4105-B8EA-BD464EAD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5A561-55F1-4DEA-817C-1BC2338E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166320"/>
            <a:ext cx="9131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3C5F8-BA02-4602-81E7-55BD8C64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623F4-03B5-4257-9E91-E493CC1A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326AF-7B64-437F-8324-82822447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A7EB8-896D-495D-9333-BBF9A40F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47AFC-36BE-4001-A443-CF0518D0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45E28-855D-44C3-87FF-91A1F06A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00140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08912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404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400140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708912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C159F-BFAB-49AF-AB88-DD559E65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837720" y="166320"/>
            <a:ext cx="9131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487520" y="-321480"/>
            <a:ext cx="12231360" cy="7795440"/>
            <a:chOff x="-1487520" y="-321480"/>
            <a:chExt cx="12231360" cy="7795440"/>
          </a:xfrm>
        </p:grpSpPr>
        <p:sp>
          <p:nvSpPr>
            <p:cNvPr id="1" name=""/>
            <p:cNvSpPr/>
            <p:nvPr/>
          </p:nvSpPr>
          <p:spPr>
            <a:xfrm>
              <a:off x="3044160" y="6120"/>
              <a:ext cx="3239640" cy="68767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3240000" cy="68706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983640" y="7560"/>
              <a:ext cx="3243960" cy="68720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79720" cy="68626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8160" y="168120"/>
              <a:ext cx="6535800" cy="2437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864080" y="1089360"/>
              <a:ext cx="4037760" cy="187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800" y="91800"/>
              <a:ext cx="6535800" cy="2437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348200" y="1452600"/>
              <a:ext cx="5561280" cy="28648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482560" y="1463040"/>
              <a:ext cx="6703920" cy="2753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3467520" y="1387080"/>
              <a:ext cx="653544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27200" y="2880"/>
              <a:ext cx="2031480" cy="3626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19720"/>
              <a:ext cx="1074384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4160" y="6292800"/>
              <a:ext cx="32396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2800"/>
              <a:ext cx="32400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983640" y="6292800"/>
              <a:ext cx="324396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81280" y="6292800"/>
              <a:ext cx="38797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1800"/>
              <a:ext cx="1074384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817880" y="6232320"/>
              <a:ext cx="193248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918520" y="6114960"/>
              <a:ext cx="1682280" cy="894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575360" y="6114960"/>
              <a:ext cx="1682280" cy="894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199800" y="6063840"/>
              <a:ext cx="1640880" cy="90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1073520" y="6219720"/>
              <a:ext cx="66250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446400" y="6219720"/>
              <a:ext cx="28652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5662080" y="6296040"/>
              <a:ext cx="248436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7430400" y="6219720"/>
              <a:ext cx="28652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6445440" y="6219720"/>
              <a:ext cx="429732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3200"/>
              <a:ext cx="1074384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3703680" y="631332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NNN05-Photon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" name="" descr=""/>
          <p:cNvPicPr/>
          <p:nvPr/>
        </p:nvPicPr>
        <p:blipFill>
          <a:blip r:embed="rId2"/>
          <a:srcRect l="0" t="0" r="39588" b="0"/>
          <a:stretch/>
        </p:blipFill>
        <p:spPr>
          <a:xfrm>
            <a:off x="7772400" y="6318360"/>
            <a:ext cx="296244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487880" y="-335160"/>
            <a:ext cx="12244320" cy="7205760"/>
            <a:chOff x="-1487880" y="-335160"/>
            <a:chExt cx="12244320" cy="7205760"/>
          </a:xfrm>
        </p:grpSpPr>
        <p:sp>
          <p:nvSpPr>
            <p:cNvPr id="69" name=""/>
            <p:cNvSpPr/>
            <p:nvPr/>
          </p:nvSpPr>
          <p:spPr>
            <a:xfrm>
              <a:off x="3044160" y="-7920"/>
              <a:ext cx="323928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-11160"/>
              <a:ext cx="32400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83280" y="-6480"/>
              <a:ext cx="324360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-14400"/>
              <a:ext cx="387936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8160" y="154080"/>
              <a:ext cx="653580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863720" y="1075680"/>
              <a:ext cx="4038840" cy="187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4800" y="77760"/>
              <a:ext cx="653580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348920" y="1439280"/>
              <a:ext cx="5562720" cy="28645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482200" y="1449000"/>
              <a:ext cx="670356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3466800" y="1372680"/>
              <a:ext cx="6535080" cy="2439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26840" y="-11160"/>
              <a:ext cx="20314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75040"/>
              <a:ext cx="1074348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4160" y="3948120"/>
              <a:ext cx="323928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948120"/>
              <a:ext cx="32400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83280" y="3948120"/>
              <a:ext cx="324360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81280" y="3948120"/>
              <a:ext cx="387936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960" y="3898800"/>
              <a:ext cx="1074348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17520" y="3887640"/>
              <a:ext cx="193248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918520" y="3770280"/>
              <a:ext cx="1683000" cy="894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575360" y="3770280"/>
              <a:ext cx="1683000" cy="894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99080" y="3719520"/>
              <a:ext cx="1641600" cy="90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1073520" y="3874320"/>
              <a:ext cx="66250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46400" y="3874320"/>
              <a:ext cx="28652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5662080" y="3950640"/>
              <a:ext cx="248436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7430040" y="3874320"/>
              <a:ext cx="28652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445440" y="3874320"/>
              <a:ext cx="429732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908520"/>
              <a:ext cx="1074348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572000"/>
              <a:ext cx="1074348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410080"/>
              <a:ext cx="1074348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8" name="BTZBUL1A" descr=""/>
            <p:cNvPicPr/>
            <p:nvPr/>
          </p:nvPicPr>
          <p:blipFill>
            <a:blip r:embed="rId2"/>
            <a:stretch/>
          </p:blipFill>
          <p:spPr>
            <a:xfrm>
              <a:off x="1465920" y="2619360"/>
              <a:ext cx="38052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69920" y="1904760"/>
            <a:ext cx="8506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806400" y="6324480"/>
            <a:ext cx="22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3"/>
          </p:nvPr>
        </p:nvSpPr>
        <p:spPr>
          <a:xfrm>
            <a:off x="3669840" y="6324480"/>
            <a:ext cx="340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4"/>
          </p:nvPr>
        </p:nvSpPr>
        <p:spPr>
          <a:xfrm>
            <a:off x="7699320" y="6324480"/>
            <a:ext cx="22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CDA0-5E68-41D4-BF5C-C57C35E91C1A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.marmonier@photonis.com" TargetMode="External"/><Relationship Id="rId2" Type="http://schemas.openxmlformats.org/officeDocument/2006/relationships/hyperlink" Target="http://www.photonis.com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6040" y="870120"/>
            <a:ext cx="91314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  <a:ea typeface="Times New Roman"/>
              </a:rPr>
              <a:t>Revisiting the optimum PMT size for water-Cherenkov megaton detector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3200040"/>
            <a:ext cx="9131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Esso Flyckt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,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Christophe Fontaine,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Pascal Lavoute and </a:t>
            </a:r>
            <a:r>
              <a:rPr b="1" lang="en-US" sz="1800" spc="-1" strike="noStrike" u="sng">
                <a:solidFill>
                  <a:srgbClr val="f98d43"/>
                </a:solidFill>
                <a:uFillTx/>
                <a:latin typeface="Arial"/>
                <a:ea typeface="Times New Roman"/>
                <a:hlinkClick r:id="rId1"/>
              </a:rPr>
              <a:t>Carole Marmon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98d43"/>
                </a:solidFill>
                <a:uFillTx/>
                <a:latin typeface="Arial"/>
                <a:ea typeface="Times New Roman"/>
                <a:hlinkClick r:id="rId2"/>
              </a:rPr>
              <a:t>Photonis</a:t>
            </a:r>
            <a:r>
              <a:rPr b="1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, Brive, Fra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NNN05 workshop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Aussois 2005-04-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3581280"/>
            <a:ext cx="420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4114800"/>
            <a:ext cx="44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0307005-00" descr=""/>
          <p:cNvPicPr/>
          <p:nvPr/>
        </p:nvPicPr>
        <p:blipFill>
          <a:blip r:embed="rId3"/>
          <a:srcRect l="29016" t="47352" r="21639" b="20624"/>
          <a:stretch/>
        </p:blipFill>
        <p:spPr>
          <a:xfrm>
            <a:off x="0" y="4724280"/>
            <a:ext cx="3200400" cy="1524240"/>
          </a:xfrm>
          <a:prstGeom prst="rect">
            <a:avLst/>
          </a:prstGeom>
          <a:ln w="0">
            <a:noFill/>
          </a:ln>
        </p:spPr>
      </p:pic>
      <p:pic>
        <p:nvPicPr>
          <p:cNvPr id="144" name="RODEN" descr=""/>
          <p:cNvPicPr/>
          <p:nvPr/>
        </p:nvPicPr>
        <p:blipFill>
          <a:blip r:embed="rId4"/>
          <a:srcRect l="8819" t="10559" r="0" b="4949"/>
          <a:stretch/>
        </p:blipFill>
        <p:spPr>
          <a:xfrm>
            <a:off x="7846920" y="4724280"/>
            <a:ext cx="28972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227880"/>
            <a:ext cx="9131040" cy="15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Very many PMTs</a:t>
            </a: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4400"/>
            </a:br>
            <a:br>
              <a:rPr sz="1000"/>
            </a:br>
            <a:r>
              <a:rPr b="0" lang="de-DE" sz="2000" spc="-1" strike="noStrike">
                <a:solidFill>
                  <a:srgbClr val="ffcc00"/>
                </a:solidFill>
                <a:latin typeface="Arial Black"/>
              </a:rPr>
              <a:t>Example: UNO &gt;50,000x 20“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9131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PMT size &lt;=&gt; cost</a:t>
            </a:r>
            <a:r>
              <a:rPr b="1" i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27400" y="2971800"/>
            <a:ext cx="53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Embedded inside water vol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278880" y="2971800"/>
            <a:ext cx="1987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ensi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429000"/>
            <a:ext cx="1698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3200400" y="3962520"/>
            <a:ext cx="49309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E pulse-height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4495680"/>
            <a:ext cx="5769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Granula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456120"/>
            <a:ext cx="91310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cc00"/>
                </a:solidFill>
                <a:latin typeface="Arial Black"/>
              </a:rPr>
              <a:t>PMT size &lt;=&gt; cos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9131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Diameter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 20“   &lt;=&gt;  (20“)17“   &lt;=&gt;    12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projected area      1660                 1450            615    cm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QE(typ)         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 20                     20              24   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CE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            60                     60              70   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028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ost                   2500            2500           800   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46280" y="4648320"/>
            <a:ext cx="9769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Cost/</a:t>
            </a:r>
            <a:r>
              <a:rPr b="0" i="1" lang="de-DE" sz="3200" spc="-1" strike="noStrike">
                <a:solidFill>
                  <a:srgbClr val="ffcc00"/>
                </a:solidFill>
                <a:latin typeface="Tahoma"/>
              </a:rPr>
              <a:t>cm²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 per useful PE</a:t>
            </a:r>
            <a:r>
              <a:rPr b="0" i="1" lang="de-DE" sz="3200" spc="-1" strike="noStrike" baseline="-25000">
                <a:solidFill>
                  <a:srgbClr val="ffcc00"/>
                </a:solidFill>
                <a:latin typeface="Arial"/>
              </a:rPr>
              <a:t>U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= 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cost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/(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QE</a:t>
            </a: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                             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12.6            14.4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     7.7  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€/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PE</a:t>
            </a:r>
            <a:r>
              <a:rPr b="1" lang="de-DE" sz="3200" spc="-1" strike="noStrike" baseline="-25000">
                <a:solidFill>
                  <a:srgbClr val="ffcc00"/>
                </a:solidFill>
                <a:latin typeface="Arial"/>
              </a:rPr>
              <a:t>U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/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cm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6040" y="7707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Timing-Weight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371600" y="2286000"/>
          <a:ext cx="8305920" cy="2995560"/>
        </p:xfrm>
        <a:graphic>
          <a:graphicData uri="http://schemas.openxmlformats.org/drawingml/2006/table">
            <a:tbl>
              <a:tblPr/>
              <a:tblGrid>
                <a:gridCol w="3060720"/>
                <a:gridCol w="1816200"/>
                <a:gridCol w="1788840"/>
                <a:gridCol w="1640160"/>
              </a:tblGrid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ze</a:t>
                      </a: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	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0“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7“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2“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ise time (ns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itter   (ns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.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.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.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46479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cc00"/>
                </a:solidFill>
                <a:latin typeface="Arial"/>
              </a:rPr>
              <a:t>Weight (kg)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8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8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     2.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6612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Single-electron resolution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12440" y="182880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Need good P/V for exact gain calibr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20“  difficult? (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/V = 1.1 - 1.7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17“  P/V = 1.5 - 2.5:1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(reality better)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12“  P/V = 1.5 - 2.3:1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(reality bet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648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Quantities and total cos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20“     </a:t>
            </a: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50,000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  x  € 2500   = € 125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17“     57,200   x  € 2500   = € 143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12“   135,000   x  €   800   = € </a:t>
            </a: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108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06040" y="352440"/>
            <a:ext cx="9131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New pump capacity neede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Delivery over 6 ye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300 working days/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133720"/>
            <a:ext cx="9144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de-DE" sz="2400" spc="-1" strike="noStrike" u="sng">
                <a:solidFill>
                  <a:srgbClr val="ffcc00"/>
                </a:solidFill>
                <a:uFillTx/>
                <a:latin typeface="Arial"/>
              </a:rPr>
              <a:t>20“ tube</a:t>
            </a:r>
            <a:r>
              <a:rPr b="0" i="1" lang="de-DE" sz="28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50,000/6/300 =&gt; 28 good tubes x yield 0.7 = 40 starts/day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(1 start/pump/day) =&gt;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40 pumps  ( € 7M or s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28954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de-DE" sz="2400" spc="-1" strike="noStrike" u="sng">
                <a:solidFill>
                  <a:srgbClr val="ffcc00"/>
                </a:solidFill>
                <a:uFillTx/>
                <a:latin typeface="Arial"/>
              </a:rPr>
              <a:t>12“ tu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135,000/6/300 =&gt; 75 good tubes x yield 0.7 = 110 starts/day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cc00"/>
                </a:solidFill>
                <a:latin typeface="Arial"/>
              </a:rPr>
              <a:t>A multi-array computerised pump at Photonis handles 20 starts/d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=&gt; </a:t>
            </a: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        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6 pumps   ( € 2M or s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19764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+ Sub-conclusion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6040" y="1523880"/>
            <a:ext cx="9131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ffcc00"/>
                </a:solidFill>
                <a:latin typeface="Arial"/>
              </a:rPr>
              <a:t>12“ seems much better than 20“/17“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cost per useful photoelectron &amp; total PMT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single-electron resolution (17“ equ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granula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weight and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implosion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investments and start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21348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- Sub-conclusion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6040" y="1600200"/>
            <a:ext cx="9131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cost of more cables and electro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12“ tubes may also need a shield at 60 m depth            (or thicker glas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06040" y="47412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Discuss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10211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The 12“ tube is a cost-optimum for Photonis pumping systems - maybe other cost-optima in 8“ - 15“ for other suppli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an be made by at least 4 suppliers - without major R&amp;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hotonis is willing, able and prepared up to 15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However,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non-industry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investments need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7360"/>
            <a:ext cx="9131400" cy="57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Optimise!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2000"/>
            </a:b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Cost/cm² per useful PE</a:t>
            </a:r>
            <a:r>
              <a:rPr b="0" i="1" lang="de-DE" sz="3600" spc="-1" strike="noStrike" baseline="-25000">
                <a:solidFill>
                  <a:srgbClr val="ffcc00"/>
                </a:solidFill>
                <a:latin typeface="Arial"/>
              </a:rPr>
              <a:t>U</a:t>
            </a: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=</a:t>
            </a:r>
            <a:br>
              <a:rPr sz="3600"/>
            </a:br>
            <a:br>
              <a:rPr sz="3600"/>
            </a:b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cost</a:t>
            </a: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/(</a:t>
            </a:r>
            <a:r>
              <a:rPr b="1" lang="de-DE" sz="3600" spc="-1" strike="noStrike">
                <a:solidFill>
                  <a:srgbClr val="ffcc00"/>
                </a:solidFill>
                <a:latin typeface="Arial"/>
              </a:rPr>
              <a:t>cm²</a:t>
            </a: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xQExCE)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06040" y="1676520"/>
            <a:ext cx="9131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-72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  <a:ea typeface="Times New Roman"/>
              </a:rPr>
              <a:t>Overview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3581280"/>
            <a:ext cx="420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114800"/>
            <a:ext cx="44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1219320"/>
            <a:ext cx="52578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PHOTO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Physics is challen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Traditional PM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Optimal size &lt;=&gt; c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apacity &amp; invest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Sub-conclus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Discu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R&amp;D prosp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801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Invest </a:t>
            </a: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in</a:t>
            </a: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 QE now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10439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Instead of investing € 7M (or so) for 20“ it is better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19044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invest € 2M (or so) for 12“ 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19044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another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€ 0.5M in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getting the QE up to &gt; 30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Photonis has such a QE program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Characterisation with French instit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6040" y="57384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„</a:t>
            </a: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Smart“ PMTs so far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mart“ =&gt; PHR =&gt; elimination of single PE noise (for DUMA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atented by Philips (Photon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opied (faster mushrom shape) by INR, Moscow, into the „QUASAR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rinciple1" descr=""/>
          <p:cNvPicPr/>
          <p:nvPr/>
        </p:nvPicPr>
        <p:blipFill>
          <a:blip r:embed="rId1"/>
          <a:stretch/>
        </p:blipFill>
        <p:spPr>
          <a:xfrm>
            <a:off x="7115040" y="2514600"/>
            <a:ext cx="3629160" cy="3657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315200" y="21337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Philips (spherical)</a:t>
            </a:r>
            <a:r>
              <a:rPr b="0" lang="de-DE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48640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anode target was YSO single-crystal at +25-30 kV =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photocathode at ground potentia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artly sensitive from the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rinciple2" descr=""/>
          <p:cNvPicPr/>
          <p:nvPr/>
        </p:nvPicPr>
        <p:blipFill>
          <a:blip r:embed="rId1"/>
          <a:srcRect l="13203" t="1809" r="3985" b="18016"/>
          <a:stretch/>
        </p:blipFill>
        <p:spPr>
          <a:xfrm>
            <a:off x="0" y="0"/>
            <a:ext cx="537696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1969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Pulse-height resolu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9" name="singleResolution" descr=""/>
          <p:cNvPicPr/>
          <p:nvPr/>
        </p:nvPicPr>
        <p:blipFill>
          <a:blip r:embed="rId1"/>
          <a:srcRect l="8164" t="5722" r="0" b="0"/>
          <a:stretch/>
        </p:blipFill>
        <p:spPr>
          <a:xfrm>
            <a:off x="228600" y="1752480"/>
            <a:ext cx="6002280" cy="3770280"/>
          </a:xfrm>
          <a:prstGeom prst="rect">
            <a:avLst/>
          </a:prstGeom>
          <a:ln w="0">
            <a:noFill/>
          </a:ln>
        </p:spPr>
      </p:pic>
      <p:pic>
        <p:nvPicPr>
          <p:cNvPr id="230" name="Baikall1" descr=""/>
          <p:cNvPicPr/>
          <p:nvPr/>
        </p:nvPicPr>
        <p:blipFill>
          <a:blip r:embed="rId2"/>
          <a:srcRect l="0" t="7575" r="0" b="0"/>
          <a:stretch/>
        </p:blipFill>
        <p:spPr>
          <a:xfrm>
            <a:off x="6553080" y="1752480"/>
            <a:ext cx="4191120" cy="3838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238880" y="559224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 Black"/>
              </a:rPr>
              <a:t>S/N 8 &amp; 10 deployed in Lake Baik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319680"/>
            <a:ext cx="9131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Status „smart“ PM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960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hilips/Photonis made ~ 30; invested 1M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€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200 QUASARs operating for many years in Lake Baikal =&gt;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proof of concept as to life tim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No ongoing producti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ould be made (and improved) agai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27160"/>
            <a:ext cx="9131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Possible „smart“ PM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Reproduce and improve former tu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Redesign (targ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Better scintillator (LSO, ZnO:Ga,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i diode/Si diode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APD/APD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Multianode multipl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Quadrant PMT (inside/outs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801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On-going R&amp;D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„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smart“ 8 =&gt; 12“ tubes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-285480">
              <a:lnSpc>
                <a:spcPct val="115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electron-bombarded scintillator in a preamplifier tube, read-out by a small, fast P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-285480">
              <a:lnSpc>
                <a:spcPct val="115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electron-bombarded Si diode as the an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Both will resolve 1, 2, 3, several photoelectrons but - need to stand &gt; 15 - 20 k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Is such „smartness“ worth a factor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2-3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 in c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593280"/>
            <a:ext cx="88394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 Black"/>
              </a:rPr>
              <a:t>Photonis has all the technical capability needed!</a:t>
            </a:r>
            <a:br>
              <a:rPr sz="3600"/>
            </a:br>
            <a:br>
              <a:rPr sz="3200"/>
            </a:br>
            <a:r>
              <a:rPr b="0" i="1" lang="en-US" sz="3600" spc="-1" strike="noStrike">
                <a:solidFill>
                  <a:srgbClr val="ffcc00"/>
                </a:solidFill>
                <a:latin typeface="Arial Black"/>
              </a:rPr>
              <a:t>R&amp;D cooperation: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detailed &amp; intensive talks are going on with the MEMPHYS collaboration to</a:t>
            </a:r>
            <a:r>
              <a:rPr b="1" i="1" lang="en-US" sz="3200" spc="-1" strike="noStrike">
                <a:solidFill>
                  <a:srgbClr val="ffcc00"/>
                </a:solidFill>
                <a:latin typeface="Arial Black"/>
              </a:rPr>
              <a:t> d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efine a balanced programme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Workshop planned in the spring</a:t>
            </a:r>
            <a:br>
              <a:rPr sz="28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995760"/>
            <a:ext cx="9131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cc00"/>
                </a:solidFill>
                <a:latin typeface="Arial Black"/>
              </a:rPr>
              <a:t>Questions?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6040" y="861480"/>
            <a:ext cx="9131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 Black"/>
              </a:rPr>
              <a:t>Briv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25800" y="-304920"/>
            <a:ext cx="795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france2" descr=""/>
          <p:cNvPicPr/>
          <p:nvPr/>
        </p:nvPicPr>
        <p:blipFill>
          <a:blip r:embed="rId1"/>
          <a:stretch/>
        </p:blipFill>
        <p:spPr>
          <a:xfrm>
            <a:off x="0" y="0"/>
            <a:ext cx="6862680" cy="604692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4495680" y="0"/>
            <a:ext cx="2303640" cy="2014560"/>
            <a:chOff x="4495680" y="0"/>
            <a:chExt cx="2303640" cy="2014560"/>
          </a:xfrm>
        </p:grpSpPr>
        <p:graphicFrame>
          <p:nvGraphicFramePr>
            <p:cNvPr id="153" name=""/>
            <p:cNvGraphicFramePr/>
            <p:nvPr/>
          </p:nvGraphicFramePr>
          <p:xfrm>
            <a:off x="4495680" y="0"/>
            <a:ext cx="2303640" cy="201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95680" y="0"/>
                      <a:ext cx="2303640" cy="2014560"/>
                    </a:xfrm>
                    <a:prstGeom prst="rect">
                      <a:avLst/>
                    </a:prstGeom>
                    <a:ln w="25560">
                      <a:solidFill>
                        <a:srgbClr val="000066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155" name=""/>
            <p:cNvGrpSpPr/>
            <p:nvPr/>
          </p:nvGrpSpPr>
          <p:grpSpPr>
            <a:xfrm>
              <a:off x="5086440" y="230040"/>
              <a:ext cx="1150920" cy="442440"/>
              <a:chOff x="5086440" y="230040"/>
              <a:chExt cx="1150920" cy="442440"/>
            </a:xfrm>
          </p:grpSpPr>
          <p:sp>
            <p:nvSpPr>
              <p:cNvPr id="156" name=""/>
              <p:cNvSpPr/>
              <p:nvPr/>
            </p:nvSpPr>
            <p:spPr>
              <a:xfrm>
                <a:off x="5086440" y="230040"/>
                <a:ext cx="115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66"/>
                    </a:solidFill>
                    <a:latin typeface="Arial"/>
                  </a:rPr>
                  <a:t>RODEN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54680" y="552240"/>
                <a:ext cx="144360" cy="1202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727520" y="839520"/>
              <a:ext cx="1150920" cy="443160"/>
              <a:chOff x="4727520" y="839520"/>
              <a:chExt cx="1150920" cy="443160"/>
            </a:xfrm>
          </p:grpSpPr>
          <p:sp>
            <p:nvSpPr>
              <p:cNvPr id="159" name=""/>
              <p:cNvSpPr/>
              <p:nvPr/>
            </p:nvSpPr>
            <p:spPr>
              <a:xfrm>
                <a:off x="4727520" y="839520"/>
                <a:ext cx="115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66"/>
                    </a:solidFill>
                    <a:latin typeface="Arial"/>
                  </a:rPr>
                  <a:t>BRIVE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495760" y="1162080"/>
                <a:ext cx="144360" cy="12060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8229600" y="382320"/>
            <a:ext cx="1523880" cy="4713120"/>
            <a:chOff x="8229600" y="382320"/>
            <a:chExt cx="1523880" cy="4713120"/>
          </a:xfrm>
        </p:grpSpPr>
        <p:cxnSp>
          <p:nvCxnSpPr>
            <p:cNvPr id="162" name="_s29755"/>
            <p:cNvCxnSpPr>
              <a:stCxn id="163" idx="0"/>
              <a:endCxn id="164" idx="2"/>
            </p:cNvCxnSpPr>
            <p:nvPr/>
          </p:nvCxnSpPr>
          <p:spPr>
            <a:xfrm flipH="1" flipV="1" rot="5400000">
              <a:off x="8915040" y="3582720"/>
              <a:ext cx="155880" cy="3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29756"/>
            <p:cNvCxnSpPr>
              <a:stCxn id="164" idx="0"/>
              <a:endCxn id="166" idx="2"/>
            </p:cNvCxnSpPr>
            <p:nvPr/>
          </p:nvCxnSpPr>
          <p:spPr>
            <a:xfrm flipV="1">
              <a:off x="8994240" y="2744280"/>
              <a:ext cx="1080" cy="15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29757"/>
            <p:cNvCxnSpPr>
              <a:stCxn id="166" idx="0"/>
              <a:endCxn id="168" idx="2"/>
            </p:cNvCxnSpPr>
            <p:nvPr/>
          </p:nvCxnSpPr>
          <p:spPr>
            <a:xfrm flipV="1">
              <a:off x="8994240" y="1991520"/>
              <a:ext cx="1080" cy="14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29758"/>
            <p:cNvCxnSpPr>
              <a:stCxn id="168" idx="0"/>
              <a:endCxn id="170" idx="2"/>
            </p:cNvCxnSpPr>
            <p:nvPr/>
          </p:nvCxnSpPr>
          <p:spPr>
            <a:xfrm flipV="1">
              <a:off x="8994240" y="1382040"/>
              <a:ext cx="1080" cy="141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29759"/>
            <p:cNvCxnSpPr>
              <a:stCxn id="170" idx="0"/>
              <a:endCxn id="172" idx="2"/>
            </p:cNvCxnSpPr>
            <p:nvPr/>
          </p:nvCxnSpPr>
          <p:spPr>
            <a:xfrm flipV="1" rot="16200000">
              <a:off x="8944200" y="863280"/>
              <a:ext cx="98640" cy="2160"/>
            </a:xfrm>
            <a:prstGeom prst="bentConnector3">
              <a:avLst>
                <a:gd name="adj1" fmla="val 498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2" name="_s29760"/>
            <p:cNvSpPr/>
            <p:nvPr/>
          </p:nvSpPr>
          <p:spPr>
            <a:xfrm>
              <a:off x="8235720" y="382320"/>
              <a:ext cx="1512360" cy="43308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37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ILIPS BRIV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29761"/>
            <p:cNvSpPr/>
            <p:nvPr/>
          </p:nvSpPr>
          <p:spPr>
            <a:xfrm>
              <a:off x="8235720" y="914040"/>
              <a:ext cx="1517400" cy="4680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63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HYPERELEC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29762"/>
            <p:cNvSpPr/>
            <p:nvPr/>
          </p:nvSpPr>
          <p:spPr>
            <a:xfrm>
              <a:off x="8235720" y="1523880"/>
              <a:ext cx="1517400" cy="4680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86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RTC Compelec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_s29763"/>
            <p:cNvSpPr/>
            <p:nvPr/>
          </p:nvSpPr>
          <p:spPr>
            <a:xfrm>
              <a:off x="8235720" y="2133360"/>
              <a:ext cx="1517400" cy="61092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90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ILIP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COMPONENT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_s29764"/>
            <p:cNvSpPr/>
            <p:nvPr/>
          </p:nvSpPr>
          <p:spPr>
            <a:xfrm>
              <a:off x="8235720" y="2895480"/>
              <a:ext cx="1517400" cy="61056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" rIns="72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92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ILIP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OTONIC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_s29765"/>
            <p:cNvSpPr/>
            <p:nvPr/>
          </p:nvSpPr>
          <p:spPr>
            <a:xfrm>
              <a:off x="8229600" y="3662280"/>
              <a:ext cx="1523880" cy="61056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PHOTONIS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73" name="_s29755"/>
            <p:cNvCxnSpPr>
              <a:stCxn id="174" idx="0"/>
            </p:cNvCxnSpPr>
            <p:nvPr/>
          </p:nvCxnSpPr>
          <p:spPr>
            <a:xfrm flipV="1">
              <a:off x="8991000" y="4231440"/>
              <a:ext cx="1080" cy="11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4" name="_s29765"/>
            <p:cNvSpPr/>
            <p:nvPr/>
          </p:nvSpPr>
          <p:spPr>
            <a:xfrm>
              <a:off x="8229600" y="4343040"/>
              <a:ext cx="1523880" cy="7524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2005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PHOTONIS-DEP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040" y="30420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PHOTONI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9131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ffcc00"/>
                </a:solidFill>
                <a:latin typeface="Arial"/>
              </a:rPr>
              <a:t>Photomultipl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ffcc00"/>
                </a:solidFill>
                <a:latin typeface="Arial"/>
              </a:rPr>
              <a:t>Image intens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Streak tu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Microchannel p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Single-channel electron multipl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Neutron dete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logo%20PHOTONIS-DEP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4165560" cy="878040"/>
          </a:xfrm>
          <a:prstGeom prst="rect">
            <a:avLst/>
          </a:prstGeom>
          <a:ln w="0">
            <a:noFill/>
          </a:ln>
        </p:spPr>
      </p:pic>
      <p:pic>
        <p:nvPicPr>
          <p:cNvPr id="178" name="GMCgroup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086600" y="3886200"/>
            <a:ext cx="28256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6040" y="7707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PM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Nuclear medicine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(~8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gamma cam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PET scan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Analytics/industrial 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(~1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Physics 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(~1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08800"/>
            <a:ext cx="91440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H.E.S.S. in Namibia</a:t>
            </a:r>
            <a:br>
              <a:rPr sz="4800"/>
            </a:b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0" i="1" lang="de-DE" sz="2800" spc="-1" strike="noStrike">
                <a:solidFill>
                  <a:srgbClr val="ffcc00"/>
                </a:solidFill>
                <a:latin typeface="Arial Black"/>
              </a:rPr>
              <a:t>very-low after-pulse PMT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2" name="Hess_1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689436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8016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Veritas in Arizon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VERITAS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9817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19920" y="547560"/>
            <a:ext cx="45655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Auger in Argentin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6" name="1°COUVAB-b" descr=""/>
          <p:cNvPicPr/>
          <p:nvPr/>
        </p:nvPicPr>
        <p:blipFill>
          <a:blip r:embed="rId1"/>
          <a:srcRect l="352" t="4040" r="530" b="4828"/>
          <a:stretch/>
        </p:blipFill>
        <p:spPr>
          <a:xfrm>
            <a:off x="0" y="0"/>
            <a:ext cx="54244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71840" y="199440"/>
            <a:ext cx="42670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Traditional</a:t>
            </a:r>
            <a:r>
              <a:rPr b="0" lang="de-DE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PM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00440" y="228564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Hemispheri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5“, 8“, </a:t>
            </a:r>
            <a:r>
              <a:rPr b="0" lang="de-DE" sz="4800" spc="-1" strike="noStrike">
                <a:solidFill>
                  <a:srgbClr val="ffcc00"/>
                </a:solidFill>
                <a:latin typeface="Arial"/>
              </a:rPr>
              <a:t>9“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10.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6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“, 12“, 15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hotocouv" descr=""/>
          <p:cNvPicPr/>
          <p:nvPr/>
        </p:nvPicPr>
        <p:blipFill>
          <a:blip r:embed="rId1"/>
          <a:stretch/>
        </p:blipFill>
        <p:spPr>
          <a:xfrm>
            <a:off x="0" y="0"/>
            <a:ext cx="61754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9:50:32Z</dcterms:created>
  <dc:creator>pcb</dc:creator>
  <dc:description/>
  <dc:language>en-US</dc:language>
  <cp:lastModifiedBy>JULIEN Paul</cp:lastModifiedBy>
  <dcterms:modified xsi:type="dcterms:W3CDTF">2005-04-08T16:20:49Z</dcterms:modified>
  <cp:revision>223</cp:revision>
  <dc:subject/>
  <dc:title>PowerPoint-Präsentation</dc:title>
</cp:coreProperties>
</file>